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D418-1F5B-42AA-A53C-B66D5F738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67C7-ADA1-4085-86A8-04C9585B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22ED-5F17-47CC-926F-83B243A9D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DD6C-B6DF-44BA-9AFB-0DC75EBF6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879D-7975-4A51-B751-650116E4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B082-76BF-4FBD-BF59-E5B85727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6B2D-9CF8-4640-941D-F24D503B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E1D3-FE9F-488C-BAC4-72385D8D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7374-8D5E-498B-AB9D-334A00CE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3AC5-9D0B-40E4-96E1-03B63FF1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B56C-527E-45AE-9966-A131A85C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3F4F-5DAD-43F9-9DCE-60C44042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A0D7-C000-4CA7-8974-8E2A460B50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09600" y="252360"/>
            <a:ext cx="85248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281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4680"/>
            <a:ext cx="914868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84916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ول السورة وعدد آيات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50920" y="1484280"/>
            <a:ext cx="8665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الأنفال في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دينة المن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602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زمن نزول سورة الأنفا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قب غزوة بد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الأنفا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75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5013360"/>
            <a:ext cx="86659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لأنفال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ذكرها في بداية السو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9360" cy="98100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179280" y="3429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سماء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5"/>
          <p:cNvSpPr/>
          <p:nvPr/>
        </p:nvSpPr>
        <p:spPr>
          <a:xfrm flipH="1">
            <a:off x="4642920" y="380988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6"/>
          <p:cNvSpPr/>
          <p:nvPr/>
        </p:nvSpPr>
        <p:spPr>
          <a:xfrm flipH="1" flipV="1">
            <a:off x="1547640" y="4046400"/>
            <a:ext cx="604872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4343400"/>
            <a:ext cx="20876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بد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رابط كسهم مستقيم 18"/>
          <p:cNvCxnSpPr/>
          <p:nvPr/>
        </p:nvCxnSpPr>
        <p:spPr>
          <a:xfrm>
            <a:off x="7596000" y="40831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عنوان 1"/>
          <p:cNvSpPr/>
          <p:nvPr/>
        </p:nvSpPr>
        <p:spPr>
          <a:xfrm>
            <a:off x="6012000" y="4354560"/>
            <a:ext cx="2952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نف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>
            <a:off x="1547280" y="4046040"/>
            <a:ext cx="1080" cy="28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227160" y="5629320"/>
            <a:ext cx="86659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بد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 معظم الآيات نزلت بعد معركة بدر الكبرى ولها علاقة بالجهاد في سبيل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9360" cy="981000"/>
          </a:xfrm>
          <a:prstGeom prst="rect">
            <a:avLst/>
          </a:prstGeom>
          <a:ln w="0">
            <a:noFill/>
          </a:ln>
        </p:spPr>
      </p:pic>
      <p:sp>
        <p:nvSpPr>
          <p:cNvPr id="62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غزوة بدر وفضل الله في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رابط مستقيم 19"/>
          <p:cNvSpPr/>
          <p:nvPr/>
        </p:nvSpPr>
        <p:spPr>
          <a:xfrm>
            <a:off x="8820000" y="1662120"/>
            <a:ext cx="0" cy="392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أحكام الشرعية مرجعها إلى الله ورسوله </a:t>
            </a:r>
            <a:r>
              <a:rPr b="1" lang="en-US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ث على طاعة الله ورسوله </a:t>
            </a:r>
            <a:r>
              <a:rPr b="1" lang="en-US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خطورة معصيتهم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رابط كسهم مستقيم 25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خطورة المعاص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27"/>
          <p:cNvCxnSpPr/>
          <p:nvPr/>
        </p:nvCxnSpPr>
        <p:spPr>
          <a:xfrm flipH="1">
            <a:off x="8456040" y="42825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250920" y="406728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ث على إعداد القو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رابط كسهم مستقيم 29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له لا يغير ما بهم حتى يغيروا ما بأنفس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7" name="رابط كسهم مستقيم 31"/>
          <p:cNvCxnSpPr/>
          <p:nvPr/>
        </p:nvCxnSpPr>
        <p:spPr>
          <a:xfrm flipH="1">
            <a:off x="8456040" y="4716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" name="عنوان 1"/>
          <p:cNvSpPr/>
          <p:nvPr/>
        </p:nvSpPr>
        <p:spPr>
          <a:xfrm>
            <a:off x="250920" y="4500720"/>
            <a:ext cx="8208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جواز الميل إلى السلم إذا طلب العدو ذل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رابط كسهم مستقيم 33"/>
          <p:cNvCxnSpPr/>
          <p:nvPr/>
        </p:nvCxnSpPr>
        <p:spPr>
          <a:xfrm flipH="1">
            <a:off x="8456040" y="5148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عنوان 1"/>
          <p:cNvSpPr/>
          <p:nvPr/>
        </p:nvSpPr>
        <p:spPr>
          <a:xfrm>
            <a:off x="250920" y="4932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غنائم والأسر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رابط كسهم مستقيم 35"/>
          <p:cNvCxnSpPr/>
          <p:nvPr/>
        </p:nvCxnSpPr>
        <p:spPr>
          <a:xfrm flipH="1">
            <a:off x="8457480" y="5579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عنوان 1"/>
          <p:cNvSpPr/>
          <p:nvPr/>
        </p:nvSpPr>
        <p:spPr>
          <a:xfrm>
            <a:off x="252360" y="5364000"/>
            <a:ext cx="8209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مؤمنين أمة واح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9360" cy="981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496000" cy="360036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8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